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7774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C60-9B31-4005-BE49-1DC34FE6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C1D-28BC-4CEC-8C57-12BA5811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4AE-09F8-474F-858B-E1BA2B1B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597-0273-4D6D-A028-C73342C4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FD2-8A6D-478F-AA03-109D9DB6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DDB-1DDF-46EC-84C4-4CBAB19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99A-856F-4B3E-BF4F-0A6388A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D33-0F3D-4116-BB1D-DA8FF1C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55D1-2B98-4330-AA05-54A62B2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DBA0-A1C0-4FDF-B0A8-5D16CD4D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02E8-F33D-4216-8246-37283B9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971-E2AB-4CD0-9617-D60CB26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A4B-7234-4E73-AC1D-387C3F0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11D3-E58E-4E89-8CEE-8B4053A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5326-0958-4D57-9AEF-0A7727E5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C9FB-2E2D-4BAA-A2D6-2A5DF1D6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BE8-56FD-4877-9BFA-12CC268A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861-2C08-455A-AF82-794135D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C61-1220-4FBF-B4FC-8C2E71AF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A29-540F-4A79-9408-201154B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846-727D-4B07-8178-115198CA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38F-B320-422B-86D1-9C07497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BA2-1092-4BAC-B449-CB44E7A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E14-1235-4434-AF97-E0542A5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5d1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5d1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305-D8F7-4FC2-81C4-8BE821D914D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irion-web-new" descr=""/>
          <p:cNvPicPr/>
          <p:nvPr/>
        </p:nvPicPr>
        <p:blipFill>
          <a:blip r:embed="rId2"/>
          <a:stretch/>
        </p:blipFill>
        <p:spPr>
          <a:xfrm>
            <a:off x="7467480" y="131760"/>
            <a:ext cx="149076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5d1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AC1-50B7-4113-9CEF-1997E167530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66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00a400"/>
                </a:solidFill>
                <a:latin typeface="Arial"/>
                <a:ea typeface="Times New Roman"/>
              </a:rPr>
              <a:t>Multilingual language technology as a commercial busines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Piek Vossen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Irion Technologies BV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http://www.irion.nl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Business Model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Flavors of information retrieval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Cases and best-practice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a400"/>
                </a:solidFill>
                <a:latin typeface="Arial"/>
              </a:rPr>
              <a:t>Different solutions for different problem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Size: 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Internet, Intranet, web page or PC, -&gt; affects the retrieval mode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Redundancy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Information is stored once or in all possible variations -&gt; synonym expansion.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Precision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find answers to problems, URLs, documents on topics -&gt; phrase analysi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Specialization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experts versus novices: do people know what they are looking for? -&gt; hyponym expansion, thesaurus development, spelling mistake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Globalization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What languages do customers or visitors speak? -&gt; transl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Ambiguity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a400"/>
                </a:solidFill>
                <a:latin typeface="Arial"/>
              </a:rPr>
              <a:t>How diverse is the information collection? -&gt; classification and disambigu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a400"/>
                </a:solidFill>
                <a:latin typeface="Arial"/>
              </a:rPr>
              <a:t>Strategic principle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Irion develops component technology for as many languages as possible.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Develop business cases and best-practice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Cooperate with other software developers and portal builder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3733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What we do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06600" y="5429160"/>
            <a:ext cx="903240" cy="790560"/>
          </a:xfrm>
          <a:prstGeom prst="ellipse">
            <a:avLst/>
          </a:prstGeom>
          <a:solidFill>
            <a:srgbClr val="00a400">
              <a:alpha val="50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00"/>
                </a:solidFill>
                <a:latin typeface="Times New Roman"/>
              </a:rPr>
              <a:t>TN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11760" y="4489560"/>
            <a:ext cx="901440" cy="790560"/>
          </a:xfrm>
          <a:prstGeom prst="ellipse">
            <a:avLst/>
          </a:prstGeom>
          <a:solidFill>
            <a:srgbClr val="00a400">
              <a:alpha val="50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00"/>
                </a:solidFill>
                <a:latin typeface="Times New Roman"/>
              </a:rPr>
              <a:t>Ir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5800" y="3502080"/>
            <a:ext cx="901800" cy="790560"/>
          </a:xfrm>
          <a:prstGeom prst="ellipse">
            <a:avLst/>
          </a:prstGeom>
          <a:solidFill>
            <a:srgbClr val="00a400">
              <a:alpha val="50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6600"/>
                </a:solidFill>
                <a:latin typeface="Times New Roman"/>
              </a:rPr>
              <a:t>Cus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6600"/>
                </a:solidFill>
                <a:latin typeface="Times New Roman"/>
              </a:rPr>
              <a:t>tom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9160" y="2562120"/>
            <a:ext cx="903240" cy="790560"/>
          </a:xfrm>
          <a:prstGeom prst="ellipse">
            <a:avLst/>
          </a:prstGeom>
          <a:solidFill>
            <a:srgbClr val="00a400">
              <a:alpha val="50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66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1680" y="5119560"/>
            <a:ext cx="752760" cy="493920"/>
          </a:xfrm>
          <a:prstGeom prst="line">
            <a:avLst/>
          </a:prstGeom>
          <a:ln cap="sq"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38680" y="4118040"/>
            <a:ext cx="752400" cy="495360"/>
          </a:xfrm>
          <a:prstGeom prst="line">
            <a:avLst/>
          </a:prstGeom>
          <a:ln cap="sq"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192720" y="3130200"/>
            <a:ext cx="752760" cy="493560"/>
          </a:xfrm>
          <a:prstGeom prst="line">
            <a:avLst/>
          </a:prstGeom>
          <a:ln cap="sq"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3960" y="5305320"/>
            <a:ext cx="115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Prototyp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lingwa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7280" y="426708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(TwentyOne Toolbox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1520" y="342900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613400" y="5181480"/>
            <a:ext cx="450720" cy="346320"/>
          </a:xfrm>
          <a:prstGeom prst="line">
            <a:avLst/>
          </a:prstGeom>
          <a:ln cap="sq"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449600" y="5267160"/>
            <a:ext cx="51120" cy="642960"/>
          </a:xfrm>
          <a:prstGeom prst="line">
            <a:avLst/>
          </a:prstGeom>
          <a:ln cap="sq"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08440" y="3649680"/>
            <a:ext cx="1152000" cy="939600"/>
            <a:chOff x="2908440" y="3649680"/>
            <a:chExt cx="1152000" cy="939600"/>
          </a:xfrm>
        </p:grpSpPr>
        <p:sp>
          <p:nvSpPr>
            <p:cNvPr id="194" name=""/>
            <p:cNvSpPr/>
            <p:nvPr/>
          </p:nvSpPr>
          <p:spPr>
            <a:xfrm>
              <a:off x="3509640" y="4193640"/>
              <a:ext cx="550800" cy="395640"/>
            </a:xfrm>
            <a:prstGeom prst="line">
              <a:avLst/>
            </a:prstGeom>
            <a:ln cap="sq"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08440" y="3649680"/>
              <a:ext cx="651240" cy="642960"/>
            </a:xfrm>
            <a:prstGeom prst="ellipse">
              <a:avLst/>
            </a:prstGeom>
            <a:solidFill>
              <a:srgbClr val="00a400">
                <a:alpha val="50000"/>
              </a:srgbClr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6600"/>
                  </a:solidFill>
                  <a:latin typeface="Times New Roman"/>
                </a:rPr>
                <a:t>DFKI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457360" y="4440240"/>
            <a:ext cx="1454040" cy="642960"/>
            <a:chOff x="2457360" y="4440240"/>
            <a:chExt cx="1454040" cy="642960"/>
          </a:xfrm>
        </p:grpSpPr>
        <p:sp>
          <p:nvSpPr>
            <p:cNvPr id="197" name=""/>
            <p:cNvSpPr/>
            <p:nvPr/>
          </p:nvSpPr>
          <p:spPr>
            <a:xfrm>
              <a:off x="3108960" y="4786200"/>
              <a:ext cx="802440" cy="98640"/>
            </a:xfrm>
            <a:prstGeom prst="line">
              <a:avLst/>
            </a:prstGeom>
            <a:ln cap="sq"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57360" y="4440240"/>
              <a:ext cx="651600" cy="642960"/>
            </a:xfrm>
            <a:prstGeom prst="ellipse">
              <a:avLst/>
            </a:prstGeom>
            <a:solidFill>
              <a:srgbClr val="00a400">
                <a:alpha val="50000"/>
              </a:srgbClr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6600"/>
                  </a:solidFill>
                  <a:latin typeface="Times New Roman"/>
                </a:rPr>
                <a:t>UNI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06800" y="5915160"/>
            <a:ext cx="903240" cy="790560"/>
          </a:xfrm>
          <a:prstGeom prst="ellipse">
            <a:avLst/>
          </a:prstGeom>
          <a:solidFill>
            <a:srgbClr val="00a400">
              <a:alpha val="50000"/>
            </a:srgbClr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00"/>
                </a:solidFill>
                <a:latin typeface="Times New Roman"/>
              </a:rPr>
              <a:t>VD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1000" y="522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What we don’t do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Irion does not make customized applications for end user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Irion does not carry out project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Marke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The Marke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Software houses that make/sell IR product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Value Added Resellers: VAR’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Search engine manufacturer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Systems integrator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End users with in house developer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Portals, ISP’s, ASP’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Internet Companies (suppliers)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Publishers, broadcasters and press agencie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Strategic Partner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28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TNO: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Deliver knowledge &amp; prototypes in return for product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Van Dale Lexicografie: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Deliver lingware in return for royaltie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Xerox: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Deliver lingware in return for royaltie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a400"/>
                </a:solidFill>
                <a:latin typeface="Arial"/>
              </a:rPr>
              <a:t>Carp Technologie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a400"/>
                </a:solidFill>
                <a:latin typeface="Arial"/>
              </a:rPr>
              <a:t>Deliver software in return for royalties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Product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Component technology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Irion’s vision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Business model: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Flavors of Information retrieval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Products: language technology component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Integration example Natural language search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Extending languag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a400"/>
                </a:solidFill>
                <a:latin typeface="Arial"/>
              </a:rPr>
              <a:t>Tollik Demo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Components…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33520"/>
            <a:ext cx="8001000" cy="445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mNet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query expansion &amp; translation (6 to 25 languages)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B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extraction of terminology (parsers, 6 to 25 languages)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inope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automatic generation of summaries (6 to 25 languages)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XD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from paper automatically to XML/HTM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litter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from word processor automatically to XML/HTML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ocTrans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document transl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NL-Search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language based search engine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guana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intelligent web crawler with language identific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djust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automatic classification &amp; filtering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emGen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generation of domain specific semantic network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DR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disclosure of spoken material (audio, video)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utolink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automatic generation of hyperlink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LI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Natural Language Interface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400"/>
                </a:solidFill>
                <a:latin typeface="Arial"/>
              </a:rPr>
              <a:t>Tollik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make your own web site searchable in 6 language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400"/>
                </a:solidFill>
                <a:latin typeface="Arial"/>
              </a:rPr>
              <a:t>Portal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NewsAllOverTheWorld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How everything could fit together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019240" y="2743200"/>
            <a:ext cx="1612800" cy="279360"/>
            <a:chOff x="2019240" y="2743200"/>
            <a:chExt cx="1612800" cy="279360"/>
          </a:xfrm>
        </p:grpSpPr>
        <p:sp>
          <p:nvSpPr>
            <p:cNvPr id="215" name=""/>
            <p:cNvSpPr/>
            <p:nvPr/>
          </p:nvSpPr>
          <p:spPr>
            <a:xfrm>
              <a:off x="2870280" y="2882880"/>
              <a:ext cx="761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19240" y="2743200"/>
              <a:ext cx="851040" cy="27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NLI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954960" y="2803680"/>
            <a:ext cx="646920" cy="182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22440" y="2422440"/>
            <a:ext cx="188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dexing &amp; retriev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05144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275580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triev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70200" y="336564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dex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267080" y="3035160"/>
            <a:ext cx="0" cy="3175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26080" y="391176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mNe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67080" y="3619440"/>
            <a:ext cx="0" cy="3175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65520" y="3949560"/>
            <a:ext cx="1219320" cy="14605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743360" y="5154480"/>
            <a:ext cx="1800" cy="209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46680" y="5154480"/>
            <a:ext cx="1440" cy="209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99240" y="4506840"/>
            <a:ext cx="844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4000" y="274320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inop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46600" y="421632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ocTra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4840" y="28954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84840" y="434340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4000" y="4546440"/>
            <a:ext cx="1193760" cy="27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jus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84840" y="46864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4000" y="4876920"/>
            <a:ext cx="1193760" cy="279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oB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84840" y="501660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4000" y="5207040"/>
            <a:ext cx="1193760" cy="279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utolin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84840" y="534672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75080" y="4495680"/>
            <a:ext cx="130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hance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25" idx="2"/>
          </p:cNvCxnSpPr>
          <p:nvPr/>
        </p:nvCxnSpPr>
        <p:spPr>
          <a:xfrm flipH="1" flipV="1" rot="5400000">
            <a:off x="3390480" y="4990680"/>
            <a:ext cx="465840" cy="1303920"/>
          </a:xfrm>
          <a:prstGeom prst="bentConnector3">
            <a:avLst>
              <a:gd name="adj1" fmla="val 498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3" idx="0"/>
            <a:endCxn id="225" idx="2"/>
          </p:cNvCxnSpPr>
          <p:nvPr/>
        </p:nvCxnSpPr>
        <p:spPr>
          <a:xfrm flipH="1" flipV="1" rot="5400000">
            <a:off x="3885840" y="5486040"/>
            <a:ext cx="465840" cy="313200"/>
          </a:xfrm>
          <a:prstGeom prst="bentConnector3">
            <a:avLst>
              <a:gd name="adj1" fmla="val 498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5" idx="0"/>
            <a:endCxn id="225" idx="2"/>
          </p:cNvCxnSpPr>
          <p:nvPr/>
        </p:nvCxnSpPr>
        <p:spPr>
          <a:xfrm flipV="1" rot="16200000">
            <a:off x="4380840" y="5303160"/>
            <a:ext cx="465840" cy="678600"/>
          </a:xfrm>
          <a:prstGeom prst="bentConnector3">
            <a:avLst>
              <a:gd name="adj1" fmla="val 498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7" idx="0"/>
            <a:endCxn id="225" idx="2"/>
          </p:cNvCxnSpPr>
          <p:nvPr/>
        </p:nvCxnSpPr>
        <p:spPr>
          <a:xfrm flipV="1" rot="16200000">
            <a:off x="4876200" y="4807800"/>
            <a:ext cx="465840" cy="1669320"/>
          </a:xfrm>
          <a:prstGeom prst="bentConnector3">
            <a:avLst>
              <a:gd name="adj1" fmla="val 498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1425960" y="5875200"/>
            <a:ext cx="4974840" cy="906480"/>
            <a:chOff x="1425960" y="5875200"/>
            <a:chExt cx="4974840" cy="906480"/>
          </a:xfrm>
        </p:grpSpPr>
        <p:sp>
          <p:nvSpPr>
            <p:cNvPr id="249" name=""/>
            <p:cNvSpPr/>
            <p:nvPr/>
          </p:nvSpPr>
          <p:spPr>
            <a:xfrm>
              <a:off x="2660760" y="6291360"/>
              <a:ext cx="65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9920" y="6248520"/>
              <a:ext cx="677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37080" y="6280200"/>
              <a:ext cx="3985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92600" y="624852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6880" y="6280200"/>
              <a:ext cx="5871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6248520"/>
              <a:ext cx="59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dable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35400" y="6280200"/>
              <a:ext cx="65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38320" y="6248520"/>
              <a:ext cx="677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2480" y="5892840"/>
              <a:ext cx="560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05320" y="5875200"/>
              <a:ext cx="914400" cy="27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DR/SR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14600" y="5875200"/>
              <a:ext cx="914400" cy="279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X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5680" y="5875200"/>
              <a:ext cx="914400" cy="279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plitter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0" y="5875200"/>
              <a:ext cx="914400" cy="279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guan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25960" y="589284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aptur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a400"/>
                </a:solidFill>
                <a:latin typeface="Arial"/>
              </a:rPr>
              <a:t>Capturing and enhancement…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962520"/>
            <a:ext cx="838080" cy="99036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WWW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962520"/>
            <a:ext cx="838080" cy="99036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HT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3"/>
            <a:endCxn id="261" idx="1"/>
          </p:cNvCxnSpPr>
          <p:nvPr/>
        </p:nvCxnSpPr>
        <p:spPr>
          <a:xfrm>
            <a:off x="1828800" y="445752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3902040" y="3733920"/>
            <a:ext cx="533520" cy="53316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F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02040" y="4419720"/>
            <a:ext cx="533520" cy="60948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2040" y="5105520"/>
            <a:ext cx="457200" cy="60948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124080"/>
            <a:ext cx="533520" cy="60984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5791320"/>
            <a:ext cx="533520" cy="53316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1" idx="3"/>
            <a:endCxn id="266" idx="1"/>
          </p:cNvCxnSpPr>
          <p:nvPr/>
        </p:nvCxnSpPr>
        <p:spPr>
          <a:xfrm flipV="1">
            <a:off x="3123720" y="3428640"/>
            <a:ext cx="76284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886200" y="2514600"/>
            <a:ext cx="533520" cy="53352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4419720"/>
            <a:ext cx="533160" cy="60948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5638680"/>
            <a:ext cx="533520" cy="6098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2400" y="5181480"/>
            <a:ext cx="83304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Crawl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71680" y="5137200"/>
            <a:ext cx="1275120" cy="5806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Languag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dentific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43120" y="3276720"/>
            <a:ext cx="129780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Classific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40960" y="3657600"/>
            <a:ext cx="104940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MorphTa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40240" y="4038480"/>
            <a:ext cx="81324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SynTa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42040" y="4835520"/>
            <a:ext cx="85572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SemTa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61" idx="3"/>
            <a:endCxn id="264" idx="1"/>
          </p:cNvCxnSpPr>
          <p:nvPr/>
        </p:nvCxnSpPr>
        <p:spPr>
          <a:xfrm>
            <a:off x="3123720" y="4457880"/>
            <a:ext cx="7786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7010280" y="3124080"/>
            <a:ext cx="533520" cy="6098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124080"/>
            <a:ext cx="533160" cy="60984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438280"/>
            <a:ext cx="533520" cy="6098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441972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2" idx="0"/>
            <a:endCxn id="261" idx="1"/>
          </p:cNvCxnSpPr>
          <p:nvPr/>
        </p:nvCxnSpPr>
        <p:spPr>
          <a:xfrm flipH="1" flipV="1" rot="5400000">
            <a:off x="1635480" y="4530960"/>
            <a:ext cx="724320" cy="57708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3" idx="0"/>
          </p:cNvCxnSpPr>
          <p:nvPr/>
        </p:nvCxnSpPr>
        <p:spPr>
          <a:xfrm flipH="1" flipV="1" rot="5400000">
            <a:off x="2898360" y="4606560"/>
            <a:ext cx="642240" cy="419760"/>
          </a:xfrm>
          <a:prstGeom prst="curvedConnector5">
            <a:avLst>
              <a:gd name="adj1" fmla="val 49971"/>
              <a:gd name="adj2" fmla="val 49957"/>
              <a:gd name="adj3" fmla="val 4997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010280" y="3809880"/>
            <a:ext cx="533520" cy="6098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502920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66" idx="3"/>
            <a:endCxn id="280" idx="1"/>
          </p:cNvCxnSpPr>
          <p:nvPr/>
        </p:nvCxnSpPr>
        <p:spPr>
          <a:xfrm>
            <a:off x="4419360" y="342864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64" idx="3"/>
            <a:endCxn id="270" idx="1"/>
          </p:cNvCxnSpPr>
          <p:nvPr/>
        </p:nvCxnSpPr>
        <p:spPr>
          <a:xfrm>
            <a:off x="4435200" y="4723920"/>
            <a:ext cx="2134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8001000" y="251460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10480" y="25146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5720" y="1843200"/>
            <a:ext cx="7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15720" y="182880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Fuzz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1" idx="3"/>
            <a:endCxn id="289" idx="2"/>
          </p:cNvCxnSpPr>
          <p:nvPr/>
        </p:nvCxnSpPr>
        <p:spPr>
          <a:xfrm>
            <a:off x="7543800" y="274284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9" idx="3"/>
            <a:endCxn id="295" idx="2"/>
          </p:cNvCxnSpPr>
          <p:nvPr/>
        </p:nvCxnSpPr>
        <p:spPr>
          <a:xfrm>
            <a:off x="7543800" y="342864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5" idx="3"/>
            <a:endCxn id="297" idx="2"/>
          </p:cNvCxnSpPr>
          <p:nvPr/>
        </p:nvCxnSpPr>
        <p:spPr>
          <a:xfrm flipV="1">
            <a:off x="7543800" y="403848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3"/>
            <a:endCxn id="299" idx="2"/>
          </p:cNvCxnSpPr>
          <p:nvPr/>
        </p:nvCxnSpPr>
        <p:spPr>
          <a:xfrm>
            <a:off x="7543800" y="472392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6" idx="3"/>
            <a:endCxn id="301" idx="2"/>
          </p:cNvCxnSpPr>
          <p:nvPr/>
        </p:nvCxnSpPr>
        <p:spPr>
          <a:xfrm>
            <a:off x="7543800" y="533376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71" idx="3"/>
            <a:endCxn id="303" idx="2"/>
          </p:cNvCxnSpPr>
          <p:nvPr/>
        </p:nvCxnSpPr>
        <p:spPr>
          <a:xfrm flipV="1">
            <a:off x="7543800" y="586728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89" idx="4"/>
            <a:endCxn id="290" idx="2"/>
          </p:cNvCxnSpPr>
          <p:nvPr/>
        </p:nvCxnSpPr>
        <p:spPr>
          <a:xfrm>
            <a:off x="8381520" y="274284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8001000" y="320040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10480" y="32004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295" idx="4"/>
            <a:endCxn id="305" idx="2"/>
          </p:cNvCxnSpPr>
          <p:nvPr/>
        </p:nvCxnSpPr>
        <p:spPr>
          <a:xfrm>
            <a:off x="8381520" y="342864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8001000" y="380988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F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10480" y="380988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F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97" idx="4"/>
            <a:endCxn id="307" idx="2"/>
          </p:cNvCxnSpPr>
          <p:nvPr/>
        </p:nvCxnSpPr>
        <p:spPr>
          <a:xfrm>
            <a:off x="8381520" y="403812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8001000" y="449568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10480" y="449568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299" idx="4"/>
            <a:endCxn id="309" idx="2"/>
          </p:cNvCxnSpPr>
          <p:nvPr/>
        </p:nvCxnSpPr>
        <p:spPr>
          <a:xfrm>
            <a:off x="8381520" y="472392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8001000" y="510552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10480" y="510552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1" idx="4"/>
            <a:endCxn id="311" idx="2"/>
          </p:cNvCxnSpPr>
          <p:nvPr/>
        </p:nvCxnSpPr>
        <p:spPr>
          <a:xfrm>
            <a:off x="8381520" y="533376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8001000" y="5638680"/>
            <a:ext cx="38088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10480" y="563868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3" idx="4"/>
            <a:endCxn id="313" idx="2"/>
          </p:cNvCxnSpPr>
          <p:nvPr/>
        </p:nvCxnSpPr>
        <p:spPr>
          <a:xfrm>
            <a:off x="8381520" y="5866920"/>
            <a:ext cx="2293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77" idx="3"/>
            <a:endCxn id="271" idx="1"/>
          </p:cNvCxnSpPr>
          <p:nvPr/>
        </p:nvCxnSpPr>
        <p:spPr>
          <a:xfrm>
            <a:off x="6205320" y="5008320"/>
            <a:ext cx="805320" cy="93564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77" idx="3"/>
            <a:endCxn id="286" idx="1"/>
          </p:cNvCxnSpPr>
          <p:nvPr/>
        </p:nvCxnSpPr>
        <p:spPr>
          <a:xfrm>
            <a:off x="6205320" y="5008680"/>
            <a:ext cx="805320" cy="326160"/>
          </a:xfrm>
          <a:prstGeom prst="curvedConnector5">
            <a:avLst>
              <a:gd name="adj1" fmla="val 49865"/>
              <a:gd name="adj2" fmla="val 49944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77" idx="3"/>
            <a:endCxn id="282" idx="1"/>
          </p:cNvCxnSpPr>
          <p:nvPr/>
        </p:nvCxnSpPr>
        <p:spPr>
          <a:xfrm flipV="1">
            <a:off x="6205320" y="4723920"/>
            <a:ext cx="805320" cy="285120"/>
          </a:xfrm>
          <a:prstGeom prst="curvedConnector5">
            <a:avLst>
              <a:gd name="adj1" fmla="val 49865"/>
              <a:gd name="adj2" fmla="val 49936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77" idx="3"/>
            <a:endCxn id="285" idx="1"/>
          </p:cNvCxnSpPr>
          <p:nvPr/>
        </p:nvCxnSpPr>
        <p:spPr>
          <a:xfrm flipV="1">
            <a:off x="6205320" y="4114080"/>
            <a:ext cx="805320" cy="8946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77" idx="3"/>
            <a:endCxn id="279" idx="1"/>
          </p:cNvCxnSpPr>
          <p:nvPr/>
        </p:nvCxnSpPr>
        <p:spPr>
          <a:xfrm flipV="1">
            <a:off x="6205320" y="3428640"/>
            <a:ext cx="805320" cy="1580400"/>
          </a:xfrm>
          <a:prstGeom prst="curvedConnector5">
            <a:avLst>
              <a:gd name="adj1" fmla="val 49865"/>
              <a:gd name="adj2" fmla="val 49988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277" idx="3"/>
            <a:endCxn id="281" idx="1"/>
          </p:cNvCxnSpPr>
          <p:nvPr/>
        </p:nvCxnSpPr>
        <p:spPr>
          <a:xfrm flipV="1">
            <a:off x="6205320" y="2742840"/>
            <a:ext cx="805320" cy="2265840"/>
          </a:xfrm>
          <a:prstGeom prst="curvedConnector5">
            <a:avLst>
              <a:gd name="adj1" fmla="val 49865"/>
              <a:gd name="adj2" fmla="val 49992"/>
              <a:gd name="adj3" fmla="val 4986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342040" y="4454640"/>
            <a:ext cx="979200" cy="337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ameTa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a400"/>
                </a:solidFill>
                <a:latin typeface="Arial"/>
              </a:rPr>
              <a:t>Search…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67480" y="3581280"/>
            <a:ext cx="838440" cy="99072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WWW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83120" y="4267080"/>
            <a:ext cx="533520" cy="60984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505320"/>
            <a:ext cx="533520" cy="60948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7" idx="3"/>
            <a:endCxn id="325" idx="1"/>
          </p:cNvCxnSpPr>
          <p:nvPr/>
        </p:nvCxnSpPr>
        <p:spPr>
          <a:xfrm flipV="1">
            <a:off x="4876560" y="3809520"/>
            <a:ext cx="99108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4343400" y="594360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7" idx="3"/>
            <a:endCxn id="324" idx="1"/>
          </p:cNvCxnSpPr>
          <p:nvPr/>
        </p:nvCxnSpPr>
        <p:spPr>
          <a:xfrm>
            <a:off x="4876560" y="4419360"/>
            <a:ext cx="100692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4343400" y="342900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274320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4724280"/>
            <a:ext cx="533520" cy="60984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411480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5334120"/>
            <a:ext cx="533520" cy="6094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25" idx="3"/>
            <a:endCxn id="323" idx="1"/>
          </p:cNvCxnSpPr>
          <p:nvPr/>
        </p:nvCxnSpPr>
        <p:spPr>
          <a:xfrm>
            <a:off x="6400440" y="3809520"/>
            <a:ext cx="106740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2895480" y="281952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281952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8640" y="2193840"/>
            <a:ext cx="7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7240" y="219384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Fuzz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1"/>
            <a:endCxn id="336" idx="4"/>
          </p:cNvCxnSpPr>
          <p:nvPr/>
        </p:nvCxnSpPr>
        <p:spPr>
          <a:xfrm rot="10800000">
            <a:off x="3961800" y="3047400"/>
            <a:ext cx="38160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40" name=""/>
          <p:cNvCxnSpPr>
            <a:stCxn id="335" idx="4"/>
            <a:endCxn id="336" idx="2"/>
          </p:cNvCxnSpPr>
          <p:nvPr/>
        </p:nvCxnSpPr>
        <p:spPr>
          <a:xfrm>
            <a:off x="3276720" y="304776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895480" y="350532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50532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N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1" idx="4"/>
            <a:endCxn id="342" idx="2"/>
          </p:cNvCxnSpPr>
          <p:nvPr/>
        </p:nvCxnSpPr>
        <p:spPr>
          <a:xfrm>
            <a:off x="3276720" y="373356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2895480" y="41148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F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41148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F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4" idx="4"/>
            <a:endCxn id="345" idx="2"/>
          </p:cNvCxnSpPr>
          <p:nvPr/>
        </p:nvCxnSpPr>
        <p:spPr>
          <a:xfrm>
            <a:off x="3276720" y="434304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2895480" y="48006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48006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7" idx="4"/>
            <a:endCxn id="348" idx="2"/>
          </p:cNvCxnSpPr>
          <p:nvPr/>
        </p:nvCxnSpPr>
        <p:spPr>
          <a:xfrm>
            <a:off x="3276720" y="502884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2895480" y="541008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541008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0" idx="4"/>
            <a:endCxn id="351" idx="2"/>
          </p:cNvCxnSpPr>
          <p:nvPr/>
        </p:nvCxnSpPr>
        <p:spPr>
          <a:xfrm>
            <a:off x="3276720" y="563832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895480" y="59436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5943600"/>
            <a:ext cx="381240" cy="45720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3" idx="4"/>
            <a:endCxn id="354" idx="2"/>
          </p:cNvCxnSpPr>
          <p:nvPr/>
        </p:nvCxnSpPr>
        <p:spPr>
          <a:xfrm>
            <a:off x="3276720" y="6171840"/>
            <a:ext cx="30528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6" name=""/>
          <p:cNvCxnSpPr/>
          <p:nvPr/>
        </p:nvCxnSpPr>
        <p:spPr>
          <a:xfrm rot="10800000">
            <a:off x="3885480" y="373320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57" name=""/>
          <p:cNvCxnSpPr/>
          <p:nvPr/>
        </p:nvCxnSpPr>
        <p:spPr>
          <a:xfrm rot="10800000">
            <a:off x="3885480" y="434268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58" name=""/>
          <p:cNvCxnSpPr/>
          <p:nvPr/>
        </p:nvCxnSpPr>
        <p:spPr>
          <a:xfrm rot="10800000">
            <a:off x="3885480" y="510480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59" name=""/>
          <p:cNvCxnSpPr/>
          <p:nvPr/>
        </p:nvCxnSpPr>
        <p:spPr>
          <a:xfrm rot="10800000">
            <a:off x="3885480" y="563796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60" name=""/>
          <p:cNvCxnSpPr/>
          <p:nvPr/>
        </p:nvCxnSpPr>
        <p:spPr>
          <a:xfrm rot="10800000">
            <a:off x="3885480" y="6171480"/>
            <a:ext cx="4579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</p:cxnSp>
      <p:cxnSp>
        <p:nvCxnSpPr>
          <p:cNvPr id="361" name=""/>
          <p:cNvCxnSpPr>
            <a:stCxn id="324" idx="3"/>
            <a:endCxn id="323" idx="1"/>
          </p:cNvCxnSpPr>
          <p:nvPr/>
        </p:nvCxnSpPr>
        <p:spPr>
          <a:xfrm flipV="1">
            <a:off x="6416280" y="4076280"/>
            <a:ext cx="105156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977760" y="2286000"/>
            <a:ext cx="12780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L-Que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- langu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- fuzzin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- catego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22920" y="3936960"/>
            <a:ext cx="127188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MorphTa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9600" y="4622760"/>
            <a:ext cx="145332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FuzzyMat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5840" y="5308560"/>
            <a:ext cx="192564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xpanded-Que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657600"/>
            <a:ext cx="3049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419720"/>
            <a:ext cx="30456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5105520"/>
            <a:ext cx="3049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43360" y="2565360"/>
            <a:ext cx="1086120" cy="703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Phras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1400" y="6146640"/>
            <a:ext cx="148392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Highligh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41400" y="4800600"/>
            <a:ext cx="173664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ummariz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45000" y="5715000"/>
            <a:ext cx="164376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earch simil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44640" y="5257800"/>
            <a:ext cx="1744200" cy="3988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oc transl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30" idx="3"/>
            <a:endCxn id="325" idx="1"/>
          </p:cNvCxnSpPr>
          <p:nvPr/>
        </p:nvCxnSpPr>
        <p:spPr>
          <a:xfrm>
            <a:off x="4876560" y="3733560"/>
            <a:ext cx="99108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30" idx="3"/>
            <a:endCxn id="324" idx="1"/>
          </p:cNvCxnSpPr>
          <p:nvPr/>
        </p:nvCxnSpPr>
        <p:spPr>
          <a:xfrm>
            <a:off x="4876560" y="3733920"/>
            <a:ext cx="10069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31" idx="3"/>
            <a:endCxn id="325" idx="1"/>
          </p:cNvCxnSpPr>
          <p:nvPr/>
        </p:nvCxnSpPr>
        <p:spPr>
          <a:xfrm>
            <a:off x="4876560" y="3048120"/>
            <a:ext cx="99108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31" idx="3"/>
            <a:endCxn id="324" idx="1"/>
          </p:cNvCxnSpPr>
          <p:nvPr/>
        </p:nvCxnSpPr>
        <p:spPr>
          <a:xfrm>
            <a:off x="4876560" y="3047760"/>
            <a:ext cx="100692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32" idx="3"/>
            <a:endCxn id="324" idx="1"/>
          </p:cNvCxnSpPr>
          <p:nvPr/>
        </p:nvCxnSpPr>
        <p:spPr>
          <a:xfrm flipV="1">
            <a:off x="4876560" y="4571640"/>
            <a:ext cx="10069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3" idx="3"/>
            <a:endCxn id="324" idx="1"/>
          </p:cNvCxnSpPr>
          <p:nvPr/>
        </p:nvCxnSpPr>
        <p:spPr>
          <a:xfrm flipV="1">
            <a:off x="4876560" y="4571280"/>
            <a:ext cx="1006920" cy="106740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28" idx="3"/>
            <a:endCxn id="324" idx="1"/>
          </p:cNvCxnSpPr>
          <p:nvPr/>
        </p:nvCxnSpPr>
        <p:spPr>
          <a:xfrm flipV="1">
            <a:off x="4876560" y="4571280"/>
            <a:ext cx="100692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31" idx="0"/>
            <a:endCxn id="369" idx="0"/>
          </p:cNvCxnSpPr>
          <p:nvPr/>
        </p:nvCxnSpPr>
        <p:spPr>
          <a:xfrm flipH="1" flipV="1" rot="5400000">
            <a:off x="5309280" y="1865880"/>
            <a:ext cx="178200" cy="1577160"/>
          </a:xfrm>
          <a:prstGeom prst="curvedConnector5">
            <a:avLst>
              <a:gd name="adj1" fmla="val 228947"/>
              <a:gd name="adj2" fmla="val 50000"/>
              <a:gd name="adj3" fmla="val 22894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69" idx="3"/>
            <a:endCxn id="325" idx="0"/>
          </p:cNvCxnSpPr>
          <p:nvPr/>
        </p:nvCxnSpPr>
        <p:spPr>
          <a:xfrm flipH="1">
            <a:off x="6133320" y="2920680"/>
            <a:ext cx="600840" cy="585000"/>
          </a:xfrm>
          <a:prstGeom prst="curvedConnector5">
            <a:avLst>
              <a:gd name="adj1" fmla="val -38069"/>
              <a:gd name="adj2" fmla="val 40209"/>
              <a:gd name="adj3" fmla="val -38069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24" idx="2"/>
            <a:endCxn id="371" idx="1"/>
          </p:cNvCxnSpPr>
          <p:nvPr/>
        </p:nvCxnSpPr>
        <p:spPr>
          <a:xfrm flipH="1" rot="16200000">
            <a:off x="6606000" y="4371480"/>
            <a:ext cx="175320" cy="108972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24" idx="2"/>
            <a:endCxn id="373" idx="1"/>
          </p:cNvCxnSpPr>
          <p:nvPr/>
        </p:nvCxnSpPr>
        <p:spPr>
          <a:xfrm flipH="1" rot="16200000">
            <a:off x="6379920" y="4598280"/>
            <a:ext cx="632520" cy="109296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24" idx="2"/>
            <a:endCxn id="372" idx="1"/>
          </p:cNvCxnSpPr>
          <p:nvPr/>
        </p:nvCxnSpPr>
        <p:spPr>
          <a:xfrm flipH="1" rot="16200000">
            <a:off x="6151320" y="4826880"/>
            <a:ext cx="1089720" cy="109296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24" idx="2"/>
            <a:endCxn id="370" idx="1"/>
          </p:cNvCxnSpPr>
          <p:nvPr/>
        </p:nvCxnSpPr>
        <p:spPr>
          <a:xfrm flipH="1" rot="16200000">
            <a:off x="5932800" y="5044680"/>
            <a:ext cx="1521720" cy="108972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Document and phrase score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2333160"/>
            <a:ext cx="80010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Best matching document does not necessarily contain the best matching phrase.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Exact semantic relation may not be expressed in the document: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toxic medic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medicines for toxication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Phrase matching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333520"/>
            <a:ext cx="8001000" cy="29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Normalization and stemming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Fuzzy matching: 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expanded forms: compounds, derivations, inflected forms, multiword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400"/>
                </a:solidFill>
                <a:latin typeface="Arial"/>
              </a:rPr>
              <a:t>spelling mistakes</a:t>
            </a:r>
            <a:endParaRPr b="0" lang="en-US" sz="16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Number of query words in phrase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Number of phrase words in query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Translation factor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400"/>
                </a:solidFill>
                <a:latin typeface="Arial"/>
              </a:rPr>
              <a:t>Synonym factor</a:t>
            </a: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Extending language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Now 6, 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tomorrow 25 languag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400"/>
                </a:solidFill>
                <a:latin typeface="Arial"/>
              </a:rPr>
              <a:t>Language Factory</a:t>
            </a:r>
            <a:endParaRPr b="1" lang="en-US" sz="32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Collecting Web corpora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crawling and language identification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Building up basic resources and grammar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(un)supervised machine-learning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universal grammar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Extracting corpus frequenci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meta searches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Linking semantic networks and bilingual dictionari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Cooperation with linguistic laboratori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400"/>
                </a:solidFill>
                <a:latin typeface="Arial"/>
              </a:rPr>
              <a:t>General features of the Irion products</a:t>
            </a:r>
            <a:endParaRPr b="1" lang="en-US" sz="32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Fully IP and XML compliant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Deliverable in various interfac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Fully scalable up to internet size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Deliverable at most important platform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400"/>
                </a:solidFill>
                <a:latin typeface="Arial"/>
              </a:rPr>
              <a:t>Deliverable in/for many languages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Tollik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Internet search service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Irion Technologies BV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Our vision on 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400"/>
                </a:solidFill>
                <a:latin typeface="Arial"/>
              </a:rPr>
              <a:t>Language Technology</a:t>
            </a:r>
            <a:endParaRPr b="0" lang="en-US" sz="24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99" name=""/>
          <p:cNvCxnSpPr>
            <a:stCxn id="400" idx="6"/>
            <a:endCxn id="401" idx="3"/>
          </p:cNvCxnSpPr>
          <p:nvPr/>
        </p:nvCxnSpPr>
        <p:spPr>
          <a:xfrm>
            <a:off x="2666880" y="5175360"/>
            <a:ext cx="5944320" cy="155880"/>
          </a:xfrm>
          <a:prstGeom prst="curvedConnector5">
            <a:avLst>
              <a:gd name="adj1" fmla="val 42305"/>
              <a:gd name="adj2" fmla="val 247453"/>
              <a:gd name="adj3" fmla="val 42305"/>
            </a:avLst>
          </a:prstGeom>
          <a:ln cap="rnd" w="28440">
            <a:solidFill>
              <a:srgbClr val="00cc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02" name=""/>
          <p:cNvCxnSpPr>
            <a:stCxn id="403" idx="6"/>
            <a:endCxn id="401" idx="3"/>
          </p:cNvCxnSpPr>
          <p:nvPr/>
        </p:nvCxnSpPr>
        <p:spPr>
          <a:xfrm>
            <a:off x="4225680" y="4578480"/>
            <a:ext cx="4385160" cy="753120"/>
          </a:xfrm>
          <a:prstGeom prst="curvedConnector5">
            <a:avLst>
              <a:gd name="adj1" fmla="val 105205"/>
              <a:gd name="adj2" fmla="val 49976"/>
              <a:gd name="adj3" fmla="val 105205"/>
            </a:avLst>
          </a:prstGeom>
          <a:ln cap="rnd" w="28440">
            <a:solidFill>
              <a:srgbClr val="00cc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04" name=""/>
          <p:cNvCxnSpPr>
            <a:stCxn id="405" idx="6"/>
            <a:endCxn id="401" idx="3"/>
          </p:cNvCxnSpPr>
          <p:nvPr/>
        </p:nvCxnSpPr>
        <p:spPr>
          <a:xfrm>
            <a:off x="3579840" y="2827440"/>
            <a:ext cx="5031360" cy="2504160"/>
          </a:xfrm>
          <a:prstGeom prst="curvedConnector5">
            <a:avLst>
              <a:gd name="adj1" fmla="val 104543"/>
              <a:gd name="adj2" fmla="val 49992"/>
              <a:gd name="adj3" fmla="val 104543"/>
            </a:avLst>
          </a:prstGeom>
          <a:ln cap="rnd" w="28440">
            <a:solidFill>
              <a:srgbClr val="00cc00"/>
            </a:solidFill>
            <a:custDash>
              <a:ds d="100000" sp="1000"/>
            </a:custDash>
            <a:miter/>
            <a:tailEnd len="med" type="triangle" w="med"/>
          </a:ln>
        </p:spPr>
      </p:cxnSp>
      <p:pic>
        <p:nvPicPr>
          <p:cNvPr id="406" name="BS00580_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912960" cy="768240"/>
          </a:xfrm>
          <a:prstGeom prst="rect">
            <a:avLst/>
          </a:prstGeom>
          <a:ln w="0">
            <a:noFill/>
          </a:ln>
        </p:spPr>
      </p:pic>
      <p:pic>
        <p:nvPicPr>
          <p:cNvPr id="407" name="BS00580_" descr=""/>
          <p:cNvPicPr/>
          <p:nvPr/>
        </p:nvPicPr>
        <p:blipFill>
          <a:blip r:embed="rId2"/>
          <a:stretch/>
        </p:blipFill>
        <p:spPr>
          <a:xfrm>
            <a:off x="760320" y="4718160"/>
            <a:ext cx="912960" cy="768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05120" y="4114800"/>
            <a:ext cx="1143000" cy="137160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You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Web Sit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53720" y="5001480"/>
            <a:ext cx="740520" cy="3477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ahoma"/>
              </a:rPr>
              <a:t>Tollik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419720" y="1981080"/>
            <a:ext cx="1066680" cy="822240"/>
            <a:chOff x="4419720" y="1981080"/>
            <a:chExt cx="1066680" cy="822240"/>
          </a:xfrm>
        </p:grpSpPr>
        <p:sp>
          <p:nvSpPr>
            <p:cNvPr id="410" name=""/>
            <p:cNvSpPr/>
            <p:nvPr/>
          </p:nvSpPr>
          <p:spPr>
            <a:xfrm>
              <a:off x="4419720" y="1981080"/>
              <a:ext cx="1066680" cy="822240"/>
            </a:xfrm>
            <a:prstGeom prst="foldedCorner">
              <a:avLst>
                <a:gd name="adj" fmla="val 12500"/>
              </a:avLst>
            </a:prstGeom>
            <a:solidFill>
              <a:srgbClr val="99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Exampl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Button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3880" y="2444760"/>
              <a:ext cx="740520" cy="3477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ahoma"/>
                </a:rPr>
                <a:t>Tollik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095880" y="3429000"/>
            <a:ext cx="1067040" cy="914400"/>
            <a:chOff x="6095880" y="3429000"/>
            <a:chExt cx="1067040" cy="914400"/>
          </a:xfrm>
        </p:grpSpPr>
        <p:sp>
          <p:nvSpPr>
            <p:cNvPr id="413" name=""/>
            <p:cNvSpPr/>
            <p:nvPr/>
          </p:nvSpPr>
          <p:spPr>
            <a:xfrm>
              <a:off x="6095880" y="3429000"/>
              <a:ext cx="1067040" cy="914400"/>
            </a:xfrm>
            <a:prstGeom prst="foldedCorner">
              <a:avLst>
                <a:gd name="adj" fmla="val 12500"/>
              </a:avLst>
            </a:prstGeom>
            <a:solidFill>
              <a:srgbClr val="99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Index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Specifica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240" y="3892320"/>
              <a:ext cx="765720" cy="347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ahoma"/>
                </a:rPr>
                <a:t>Index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13120" y="190512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Yo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3680" y="43434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Visi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5880" y="1143000"/>
            <a:ext cx="838440" cy="609480"/>
          </a:xfrm>
          <a:prstGeom prst="foldedCorner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Maile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Licens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419720" y="1066680"/>
            <a:ext cx="1066680" cy="838440"/>
            <a:chOff x="4419720" y="1066680"/>
            <a:chExt cx="1066680" cy="838440"/>
          </a:xfrm>
        </p:grpSpPr>
        <p:sp>
          <p:nvSpPr>
            <p:cNvPr id="419" name=""/>
            <p:cNvSpPr/>
            <p:nvPr/>
          </p:nvSpPr>
          <p:spPr>
            <a:xfrm>
              <a:off x="4419720" y="1066680"/>
              <a:ext cx="1066680" cy="838440"/>
            </a:xfrm>
            <a:prstGeom prst="foldedCorner">
              <a:avLst>
                <a:gd name="adj" fmla="val 12500"/>
              </a:avLst>
            </a:prstGeom>
            <a:solidFill>
              <a:srgbClr val="99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Purchas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Tahoma"/>
                </a:rPr>
                <a:t>Licens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87760" y="1529640"/>
              <a:ext cx="576360" cy="347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ahoma"/>
                </a:rPr>
                <a:t>Pay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421" name="BS00580_" descr=""/>
          <p:cNvPicPr/>
          <p:nvPr/>
        </p:nvPicPr>
        <p:blipFill>
          <a:blip r:embed="rId3"/>
          <a:stretch/>
        </p:blipFill>
        <p:spPr>
          <a:xfrm>
            <a:off x="7697880" y="4946760"/>
            <a:ext cx="912600" cy="768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7613280" y="4038480"/>
            <a:ext cx="11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Tolli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07" idx="3"/>
            <a:endCxn id="408" idx="1"/>
          </p:cNvCxnSpPr>
          <p:nvPr/>
        </p:nvCxnSpPr>
        <p:spPr>
          <a:xfrm flipV="1">
            <a:off x="1673280" y="4800240"/>
            <a:ext cx="232560" cy="302400"/>
          </a:xfrm>
          <a:prstGeom prst="bentConnector3">
            <a:avLst>
              <a:gd name="adj1" fmla="val 49922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00" idx="6"/>
            <a:endCxn id="425" idx="1"/>
          </p:cNvCxnSpPr>
          <p:nvPr/>
        </p:nvCxnSpPr>
        <p:spPr>
          <a:xfrm flipV="1">
            <a:off x="2666520" y="4609800"/>
            <a:ext cx="762840" cy="56592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4" idx="6"/>
            <a:endCxn id="421" idx="1"/>
          </p:cNvCxnSpPr>
          <p:nvPr/>
        </p:nvCxnSpPr>
        <p:spPr>
          <a:xfrm>
            <a:off x="6957720" y="4051440"/>
            <a:ext cx="740520" cy="1280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1" idx="5"/>
            <a:endCxn id="406" idx="2"/>
          </p:cNvCxnSpPr>
          <p:nvPr/>
        </p:nvCxnSpPr>
        <p:spPr>
          <a:xfrm rot="5400000">
            <a:off x="2955240" y="902880"/>
            <a:ext cx="338760" cy="3964680"/>
          </a:xfrm>
          <a:prstGeom prst="bentConnector3">
            <a:avLst>
              <a:gd name="adj1" fmla="val 167553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6"/>
            <a:endCxn id="417" idx="1"/>
          </p:cNvCxnSpPr>
          <p:nvPr/>
        </p:nvCxnSpPr>
        <p:spPr>
          <a:xfrm flipV="1">
            <a:off x="5038200" y="1447920"/>
            <a:ext cx="1058040" cy="2559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7" idx="3"/>
            <a:endCxn id="406" idx="0"/>
          </p:cNvCxnSpPr>
          <p:nvPr/>
        </p:nvCxnSpPr>
        <p:spPr>
          <a:xfrm flipH="1">
            <a:off x="1142280" y="1447920"/>
            <a:ext cx="5792040" cy="838800"/>
          </a:xfrm>
          <a:prstGeom prst="bentConnector4">
            <a:avLst>
              <a:gd name="adj1" fmla="val -3947"/>
              <a:gd name="adj2" fmla="val -88063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1996920" y="1066680"/>
            <a:ext cx="1524240" cy="228600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Tolli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Web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it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76520" y="1509480"/>
            <a:ext cx="664560" cy="390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Bu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96440" y="2631960"/>
            <a:ext cx="1285200" cy="390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ACTIVAT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3680" y="2271600"/>
            <a:ext cx="627840" cy="390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Se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80480" y="1890720"/>
            <a:ext cx="729000" cy="390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M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48160" y="793800"/>
            <a:ext cx="16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3366"/>
                </a:solidFill>
                <a:latin typeface="Tahoma"/>
              </a:rPr>
              <a:t>Http://www.tollik.n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114800"/>
            <a:ext cx="914400" cy="990720"/>
          </a:xfrm>
          <a:prstGeom prst="foldedCorner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Que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Resul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54640" y="4404600"/>
            <a:ext cx="699120" cy="3477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ahoma"/>
              </a:rPr>
              <a:t>Star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25" idx="3"/>
            <a:endCxn id="413" idx="1"/>
          </p:cNvCxnSpPr>
          <p:nvPr/>
        </p:nvCxnSpPr>
        <p:spPr>
          <a:xfrm flipV="1">
            <a:off x="4343400" y="3885480"/>
            <a:ext cx="1753200" cy="724680"/>
          </a:xfrm>
          <a:prstGeom prst="bentConnector3">
            <a:avLst>
              <a:gd name="adj1" fmla="val 91928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21" idx="2"/>
            <a:endCxn id="425" idx="2"/>
          </p:cNvCxnSpPr>
          <p:nvPr/>
        </p:nvCxnSpPr>
        <p:spPr>
          <a:xfrm flipV="1" rot="16200000">
            <a:off x="5715360" y="3274920"/>
            <a:ext cx="610200" cy="4269600"/>
          </a:xfrm>
          <a:prstGeom prst="curvedConnector5">
            <a:avLst>
              <a:gd name="adj1" fmla="val -37485"/>
              <a:gd name="adj2" fmla="val 49995"/>
              <a:gd name="adj3" fmla="val -3748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37" name=""/>
          <p:cNvCxnSpPr>
            <a:stCxn id="421" idx="2"/>
            <a:endCxn id="414" idx="4"/>
          </p:cNvCxnSpPr>
          <p:nvPr/>
        </p:nvCxnSpPr>
        <p:spPr>
          <a:xfrm flipV="1" rot="16200000">
            <a:off x="6622560" y="4182480"/>
            <a:ext cx="1505520" cy="1559880"/>
          </a:xfrm>
          <a:prstGeom prst="curvedConnector5">
            <a:avLst>
              <a:gd name="adj1" fmla="val -15187"/>
              <a:gd name="adj2" fmla="val 50000"/>
              <a:gd name="adj3" fmla="val -1518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38" name=""/>
          <p:cNvCxnSpPr>
            <a:stCxn id="421" idx="2"/>
            <a:endCxn id="425" idx="2"/>
          </p:cNvCxnSpPr>
          <p:nvPr/>
        </p:nvCxnSpPr>
        <p:spPr>
          <a:xfrm flipV="1" rot="16200000">
            <a:off x="5715360" y="3274920"/>
            <a:ext cx="610200" cy="4269600"/>
          </a:xfrm>
          <a:prstGeom prst="curvedConnector5">
            <a:avLst>
              <a:gd name="adj1" fmla="val -37485"/>
              <a:gd name="adj2" fmla="val 49995"/>
              <a:gd name="adj3" fmla="val -3748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7315200" y="1143000"/>
            <a:ext cx="838080" cy="609480"/>
          </a:xfrm>
          <a:prstGeom prst="foldedCorner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Maile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Index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Resul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21" idx="3"/>
            <a:endCxn id="439" idx="2"/>
          </p:cNvCxnSpPr>
          <p:nvPr/>
        </p:nvCxnSpPr>
        <p:spPr>
          <a:xfrm flipH="1" flipV="1">
            <a:off x="7733880" y="1752120"/>
            <a:ext cx="876960" cy="3579120"/>
          </a:xfrm>
          <a:prstGeom prst="curvedConnector5">
            <a:avLst>
              <a:gd name="adj1" fmla="val -26078"/>
              <a:gd name="adj2" fmla="val 27683"/>
              <a:gd name="adj3" fmla="val -26078"/>
            </a:avLst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</p:cxnSp>
      <p:cxnSp>
        <p:nvCxnSpPr>
          <p:cNvPr id="441" name=""/>
          <p:cNvCxnSpPr>
            <a:stCxn id="439" idx="0"/>
            <a:endCxn id="406" idx="0"/>
          </p:cNvCxnSpPr>
          <p:nvPr/>
        </p:nvCxnSpPr>
        <p:spPr>
          <a:xfrm rot="5400000">
            <a:off x="3866400" y="-1582200"/>
            <a:ext cx="1143720" cy="6591960"/>
          </a:xfrm>
          <a:prstGeom prst="bentConnector3">
            <a:avLst>
              <a:gd name="adj1" fmla="val -36649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442" name=""/>
          <p:cNvGrpSpPr/>
          <p:nvPr/>
        </p:nvGrpSpPr>
        <p:grpSpPr>
          <a:xfrm>
            <a:off x="151920" y="5851440"/>
            <a:ext cx="1674360" cy="246240"/>
            <a:chOff x="151920" y="5851440"/>
            <a:chExt cx="1674360" cy="246240"/>
          </a:xfrm>
        </p:grpSpPr>
        <p:cxnSp>
          <p:nvCxnSpPr>
            <p:cNvPr id="443" name=""/>
            <p:cNvCxnSpPr/>
            <p:nvPr/>
          </p:nvCxnSpPr>
          <p:spPr>
            <a:xfrm>
              <a:off x="151920" y="5973480"/>
              <a:ext cx="381960" cy="1080"/>
            </a:xfrm>
            <a:prstGeom prst="curvedConnector2">
              <a:avLst/>
            </a:prstGeom>
            <a:ln cap="rnd" w="28440">
              <a:solidFill>
                <a:srgbClr val="00cc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444" name=""/>
            <p:cNvSpPr/>
            <p:nvPr/>
          </p:nvSpPr>
          <p:spPr>
            <a:xfrm>
              <a:off x="577080" y="5851440"/>
              <a:ext cx="12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</a:rPr>
                <a:t>Tollik Server input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5600" y="6095880"/>
            <a:ext cx="1782720" cy="246240"/>
            <a:chOff x="75600" y="6095880"/>
            <a:chExt cx="1782720" cy="246240"/>
          </a:xfrm>
        </p:grpSpPr>
        <p:cxnSp>
          <p:nvCxnSpPr>
            <p:cNvPr id="446" name=""/>
            <p:cNvCxnSpPr/>
            <p:nvPr/>
          </p:nvCxnSpPr>
          <p:spPr>
            <a:xfrm rot="10800000">
              <a:off x="75600" y="6217560"/>
              <a:ext cx="457560" cy="1080"/>
            </a:xfrm>
            <a:prstGeom prst="curvedConnector2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447" name=""/>
            <p:cNvSpPr/>
            <p:nvPr/>
          </p:nvSpPr>
          <p:spPr>
            <a:xfrm>
              <a:off x="519480" y="6095880"/>
              <a:ext cx="133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</a:rPr>
                <a:t>Tollik Server output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28600" y="5638680"/>
            <a:ext cx="1617480" cy="246240"/>
            <a:chOff x="228600" y="5638680"/>
            <a:chExt cx="1617480" cy="246240"/>
          </a:xfrm>
        </p:grpSpPr>
        <p:cxnSp>
          <p:nvCxnSpPr>
            <p:cNvPr id="449" name=""/>
            <p:cNvCxnSpPr/>
            <p:nvPr/>
          </p:nvCxnSpPr>
          <p:spPr>
            <a:xfrm flipV="1">
              <a:off x="228600" y="5763600"/>
              <a:ext cx="381600" cy="370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0" name=""/>
            <p:cNvSpPr/>
            <p:nvPr/>
          </p:nvSpPr>
          <p:spPr>
            <a:xfrm>
              <a:off x="589320" y="5638680"/>
              <a:ext cx="125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</a:rPr>
                <a:t>User Process Flow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cxnSp>
        <p:nvCxnSpPr>
          <p:cNvPr id="451" name=""/>
          <p:cNvCxnSpPr>
            <a:stCxn id="432" idx="6"/>
            <a:endCxn id="410" idx="1"/>
          </p:cNvCxnSpPr>
          <p:nvPr/>
        </p:nvCxnSpPr>
        <p:spPr>
          <a:xfrm flipV="1">
            <a:off x="3231720" y="2391840"/>
            <a:ext cx="1188360" cy="756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31" idx="6"/>
            <a:endCxn id="419" idx="1"/>
          </p:cNvCxnSpPr>
          <p:nvPr/>
        </p:nvCxnSpPr>
        <p:spPr>
          <a:xfrm flipV="1">
            <a:off x="3209400" y="1485720"/>
            <a:ext cx="1210680" cy="2196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06" idx="3"/>
            <a:endCxn id="408" idx="1"/>
          </p:cNvCxnSpPr>
          <p:nvPr/>
        </p:nvCxnSpPr>
        <p:spPr>
          <a:xfrm flipH="1" flipV="1" rot="10800000">
            <a:off x="1598040" y="2669760"/>
            <a:ext cx="306720" cy="2131200"/>
          </a:xfrm>
          <a:prstGeom prst="curvedConnector5">
            <a:avLst>
              <a:gd name="adj1" fmla="val -12338"/>
              <a:gd name="adj2" fmla="val 49991"/>
              <a:gd name="adj3" fmla="val -12338"/>
            </a:avLst>
          </a:prstGeom>
          <a:ln w="2844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454" name=""/>
          <p:cNvCxnSpPr/>
          <p:nvPr/>
        </p:nvCxnSpPr>
        <p:spPr>
          <a:xfrm>
            <a:off x="228600" y="6476760"/>
            <a:ext cx="381600" cy="1080"/>
          </a:xfrm>
          <a:prstGeom prst="curvedConnector2">
            <a:avLst/>
          </a:prstGeom>
          <a:ln w="2844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563040" y="632448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ahoma"/>
              </a:rPr>
              <a:t>Put search button on your sit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5638680"/>
            <a:ext cx="838080" cy="914400"/>
          </a:xfrm>
          <a:prstGeom prst="foldedCorner">
            <a:avLst>
              <a:gd name="adj" fmla="val 12500"/>
            </a:avLst>
          </a:prstGeom>
          <a:solidFill>
            <a:srgbClr val="99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Tahoma"/>
              </a:rPr>
              <a:t>Documen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Tahoma"/>
              </a:rPr>
              <a:t>with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Tahoma"/>
              </a:rPr>
              <a:t>high-ligh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Tahoma"/>
              </a:rPr>
              <a:t>(or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Tahoma"/>
              </a:rPr>
              <a:t>Summary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21" idx="2"/>
            <a:endCxn id="456" idx="3"/>
          </p:cNvCxnSpPr>
          <p:nvPr/>
        </p:nvCxnSpPr>
        <p:spPr>
          <a:xfrm rot="5400000">
            <a:off x="6019920" y="3961440"/>
            <a:ext cx="381600" cy="388872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58" name=""/>
          <p:cNvCxnSpPr>
            <a:stCxn id="425" idx="3"/>
            <a:endCxn id="456" idx="0"/>
          </p:cNvCxnSpPr>
          <p:nvPr/>
        </p:nvCxnSpPr>
        <p:spPr>
          <a:xfrm flipH="1">
            <a:off x="3847680" y="4609800"/>
            <a:ext cx="496080" cy="1028880"/>
          </a:xfrm>
          <a:prstGeom prst="bentConnector4">
            <a:avLst>
              <a:gd name="adj1" fmla="val -46114"/>
              <a:gd name="adj2" fmla="val 74098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06" idx="3"/>
            <a:endCxn id="408" idx="1"/>
          </p:cNvCxnSpPr>
          <p:nvPr/>
        </p:nvCxnSpPr>
        <p:spPr>
          <a:xfrm>
            <a:off x="1598400" y="2670120"/>
            <a:ext cx="306720" cy="2131200"/>
          </a:xfrm>
          <a:prstGeom prst="bentConnector3">
            <a:avLst>
              <a:gd name="adj1" fmla="val 49706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05" idx="6"/>
            <a:endCxn id="413" idx="1"/>
          </p:cNvCxnSpPr>
          <p:nvPr/>
        </p:nvCxnSpPr>
        <p:spPr>
          <a:xfrm>
            <a:off x="3579480" y="2827080"/>
            <a:ext cx="2516760" cy="1059480"/>
          </a:xfrm>
          <a:prstGeom prst="bentConnector3">
            <a:avLst>
              <a:gd name="adj1" fmla="val 4995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60480" y="6660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Tollik: Cross-lingual search engine serv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4680"/>
            <a:ext cx="9753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-304920" y="4680"/>
            <a:ext cx="9753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-304920" y="4680"/>
            <a:ext cx="9753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4680"/>
            <a:ext cx="9753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-304920" y="4680"/>
            <a:ext cx="9753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866960" y="2543040"/>
            <a:ext cx="60577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(1) Growth of the Interne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In 5 years time the number of Internet users will double (Bizz/Howardshome)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From 500M to 1000M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This is an average of almost 275.000 new Internet users per day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More than 80% does not master English at all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87040" y="3204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Multilinguality on the Internet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64200" y="2819520"/>
            <a:ext cx="3673440" cy="3278520"/>
            <a:chOff x="5164200" y="2819520"/>
            <a:chExt cx="3673440" cy="3278520"/>
          </a:xfrm>
        </p:grpSpPr>
        <p:sp>
          <p:nvSpPr>
            <p:cNvPr id="105" name=""/>
            <p:cNvSpPr/>
            <p:nvPr/>
          </p:nvSpPr>
          <p:spPr>
            <a:xfrm>
              <a:off x="5617440" y="5181120"/>
              <a:ext cx="217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World populati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English / non-English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(6 billion)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5164200" y="2819520"/>
            <a:ext cx="3673440" cy="2169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64200" y="2819520"/>
                      <a:ext cx="3673440" cy="21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090440" y="2819520"/>
            <a:ext cx="3795840" cy="3317400"/>
            <a:chOff x="1090440" y="2819520"/>
            <a:chExt cx="3795840" cy="3317400"/>
          </a:xfrm>
        </p:grpSpPr>
        <p:sp>
          <p:nvSpPr>
            <p:cNvPr id="109" name=""/>
            <p:cNvSpPr/>
            <p:nvPr/>
          </p:nvSpPr>
          <p:spPr>
            <a:xfrm>
              <a:off x="1580760" y="5220000"/>
              <a:ext cx="217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Internet usage 1998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English / non-English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(total 147 million)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1090440" y="2819520"/>
            <a:ext cx="3795840" cy="2160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90440" y="2819520"/>
                      <a:ext cx="3795840" cy="21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Perspective per big continental language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0560" y="2438280"/>
          <a:ext cx="386532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2438280"/>
                    <a:ext cx="3865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(2) The library metaphor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28800" y="3308400"/>
            <a:ext cx="5334120" cy="2505960"/>
            <a:chOff x="1828800" y="3308400"/>
            <a:chExt cx="5334120" cy="2505960"/>
          </a:xfrm>
        </p:grpSpPr>
        <p:sp>
          <p:nvSpPr>
            <p:cNvPr id="117" name=""/>
            <p:cNvSpPr/>
            <p:nvPr/>
          </p:nvSpPr>
          <p:spPr>
            <a:xfrm>
              <a:off x="1828800" y="3308400"/>
              <a:ext cx="5334120" cy="2285280"/>
            </a:xfrm>
            <a:prstGeom prst="rect">
              <a:avLst/>
            </a:prstGeom>
            <a:solidFill>
              <a:srgbClr val="99cc99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3308400"/>
              <a:ext cx="307440" cy="240480"/>
            </a:xfrm>
            <a:prstGeom prst="rect">
              <a:avLst/>
            </a:prstGeom>
            <a:solidFill>
              <a:srgbClr val="99ff33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8800" y="3548880"/>
              <a:ext cx="307440" cy="240480"/>
            </a:xfrm>
            <a:prstGeom prst="rect">
              <a:avLst/>
            </a:prstGeom>
            <a:solidFill>
              <a:srgbClr val="99ff33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789360"/>
              <a:ext cx="307440" cy="240480"/>
            </a:xfrm>
            <a:prstGeom prst="rect">
              <a:avLst/>
            </a:prstGeom>
            <a:solidFill>
              <a:srgbClr val="99ff33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4029840"/>
              <a:ext cx="307440" cy="240480"/>
            </a:xfrm>
            <a:prstGeom prst="rect">
              <a:avLst/>
            </a:prstGeom>
            <a:solidFill>
              <a:srgbClr val="99ff33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444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2636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8788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6448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940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2168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320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160" y="3749040"/>
              <a:ext cx="0" cy="1202760"/>
            </a:xfrm>
            <a:prstGeom prst="line">
              <a:avLst/>
            </a:prstGeom>
            <a:ln cap="sq"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714000">
              <a:off x="6001560" y="5040720"/>
              <a:ext cx="681480" cy="102240"/>
            </a:xfrm>
            <a:prstGeom prst="ellipse">
              <a:avLst/>
            </a:prstGeom>
            <a:solidFill>
              <a:srgbClr val="99ff33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43560" y="51717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1c1c1c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87360" y="4110120"/>
              <a:ext cx="10260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7360" y="3869640"/>
              <a:ext cx="10260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87360" y="3628800"/>
              <a:ext cx="10260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87360" y="3388320"/>
              <a:ext cx="10260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5920" y="3909600"/>
              <a:ext cx="102240" cy="7992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15960" y="3989880"/>
              <a:ext cx="10224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72280" y="4470840"/>
              <a:ext cx="10260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0080" y="4551120"/>
              <a:ext cx="102600" cy="7992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00880" y="3949920"/>
              <a:ext cx="102240" cy="7992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800" y="4029840"/>
              <a:ext cx="102600" cy="7992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37280" y="4952160"/>
              <a:ext cx="102240" cy="8028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8800" y="5272920"/>
              <a:ext cx="102240" cy="79920"/>
            </a:xfrm>
            <a:prstGeom prst="ellipse">
              <a:avLst/>
            </a:prstGeom>
            <a:solidFill>
              <a:srgbClr val="1c1c1c"/>
            </a:solidFill>
            <a:ln cap="sq"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44120" y="5334120"/>
            <a:ext cx="2056680" cy="1184040"/>
            <a:chOff x="4344120" y="5334120"/>
            <a:chExt cx="2056680" cy="1184040"/>
          </a:xfrm>
        </p:grpSpPr>
        <p:sp>
          <p:nvSpPr>
            <p:cNvPr id="145" name=""/>
            <p:cNvSpPr/>
            <p:nvPr/>
          </p:nvSpPr>
          <p:spPr>
            <a:xfrm>
              <a:off x="4344120" y="59976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3366"/>
                  </a:solidFill>
                  <a:latin typeface="Times New Roman"/>
                </a:rPr>
                <a:t>retrieval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638680" y="5334120"/>
              <a:ext cx="762120" cy="685440"/>
            </a:xfrm>
            <a:prstGeom prst="line">
              <a:avLst/>
            </a:prstGeom>
            <a:ln cap="sq" w="38160">
              <a:solidFill>
                <a:srgbClr val="0033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1440" y="5181480"/>
            <a:ext cx="1974600" cy="1399680"/>
            <a:chOff x="991440" y="5181480"/>
            <a:chExt cx="1974600" cy="1399680"/>
          </a:xfrm>
        </p:grpSpPr>
        <p:sp>
          <p:nvSpPr>
            <p:cNvPr id="148" name=""/>
            <p:cNvSpPr/>
            <p:nvPr/>
          </p:nvSpPr>
          <p:spPr>
            <a:xfrm flipV="1">
              <a:off x="1677960" y="5181480"/>
              <a:ext cx="1216440" cy="892080"/>
            </a:xfrm>
            <a:prstGeom prst="line">
              <a:avLst/>
            </a:prstGeom>
            <a:ln cap="sq" w="38160">
              <a:solidFill>
                <a:srgbClr val="0033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1440" y="6060600"/>
              <a:ext cx="197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3366"/>
                  </a:solidFill>
                  <a:latin typeface="Times New Roman"/>
                </a:rPr>
                <a:t>maintenance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496880" y="2286000"/>
            <a:ext cx="1623960" cy="990720"/>
            <a:chOff x="1496880" y="2286000"/>
            <a:chExt cx="1623960" cy="990720"/>
          </a:xfrm>
        </p:grpSpPr>
        <p:sp>
          <p:nvSpPr>
            <p:cNvPr id="151" name=""/>
            <p:cNvSpPr/>
            <p:nvPr/>
          </p:nvSpPr>
          <p:spPr>
            <a:xfrm>
              <a:off x="1496880" y="228600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3366"/>
                  </a:solidFill>
                  <a:latin typeface="Times New Roman"/>
                </a:rPr>
                <a:t>disclosure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82680" y="2730600"/>
              <a:ext cx="76320" cy="546120"/>
            </a:xfrm>
            <a:prstGeom prst="line">
              <a:avLst/>
            </a:prstGeom>
            <a:ln cap="sq" w="38160">
              <a:solidFill>
                <a:srgbClr val="0033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7800" y="1306080"/>
            <a:ext cx="776916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a400"/>
                </a:solidFill>
                <a:latin typeface="Arial"/>
              </a:rPr>
              <a:t>Market Situation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78240" y="2736720"/>
            <a:ext cx="4611600" cy="72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rket situation: In most knowledge and information intensive organizations more than 75% of time and money are spent on disclosure of information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3320" y="5230800"/>
            <a:ext cx="2656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sts of information managemen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9560" y="2749680"/>
            <a:ext cx="0" cy="24256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5680" y="5181480"/>
            <a:ext cx="2349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5680" y="5035680"/>
            <a:ext cx="596880" cy="139680"/>
          </a:xfrm>
          <a:prstGeom prst="rect">
            <a:avLst/>
          </a:prstGeom>
          <a:solidFill>
            <a:srgbClr val="99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95520" y="4578480"/>
            <a:ext cx="596880" cy="596880"/>
          </a:xfrm>
          <a:prstGeom prst="rect">
            <a:avLst/>
          </a:prstGeom>
          <a:solidFill>
            <a:srgbClr val="99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5000" y="3130560"/>
            <a:ext cx="596880" cy="2044800"/>
          </a:xfrm>
          <a:prstGeom prst="rect">
            <a:avLst/>
          </a:prstGeom>
          <a:solidFill>
            <a:srgbClr val="99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759120" y="4654440"/>
            <a:ext cx="3616200" cy="819720"/>
            <a:chOff x="3759120" y="4654440"/>
            <a:chExt cx="3616200" cy="819720"/>
          </a:xfrm>
        </p:grpSpPr>
        <p:sp>
          <p:nvSpPr>
            <p:cNvPr id="162" name=""/>
            <p:cNvSpPr/>
            <p:nvPr/>
          </p:nvSpPr>
          <p:spPr>
            <a:xfrm>
              <a:off x="3759120" y="4959000"/>
              <a:ext cx="361620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utomation of disclosure will be the most fruitful for the custom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925960" y="4654440"/>
              <a:ext cx="774720" cy="291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76800" y="3511440"/>
            <a:ext cx="3798720" cy="1045800"/>
            <a:chOff x="5176800" y="3511440"/>
            <a:chExt cx="3798720" cy="1045800"/>
          </a:xfrm>
        </p:grpSpPr>
        <p:sp>
          <p:nvSpPr>
            <p:cNvPr id="165" name=""/>
            <p:cNvSpPr/>
            <p:nvPr/>
          </p:nvSpPr>
          <p:spPr>
            <a:xfrm>
              <a:off x="5359320" y="3828960"/>
              <a:ext cx="3616200" cy="72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This is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xpensive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 because it has to be done by experts, and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ime consuming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 because it has to be done manuall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76800" y="3511440"/>
              <a:ext cx="1358640" cy="291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52200" y="4807080"/>
            <a:ext cx="6721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retrieval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1680" y="4191120"/>
            <a:ext cx="6598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Main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tenan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95200" y="2914560"/>
            <a:ext cx="813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disclosur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4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a4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Language Technology meets the needs of Globalization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Language Technology meets the needs of information management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400"/>
                </a:solidFill>
                <a:latin typeface="Arial"/>
              </a:rPr>
              <a:t>So: there is a strongly growing market for Language Technology</a:t>
            </a:r>
            <a:endParaRPr b="0" lang="en-US" sz="2000" spc="-1" strike="noStrike">
              <a:solidFill>
                <a:srgbClr val="00a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5T14:25:32Z</dcterms:created>
  <dc:creator>Joop van Gent</dc:creator>
  <dc:description/>
  <dc:language>en-US</dc:language>
  <cp:lastModifiedBy>Piek Vossen</cp:lastModifiedBy>
  <dcterms:modified xsi:type="dcterms:W3CDTF">2001-10-31T17:38:37Z</dcterms:modified>
  <cp:revision>125</cp:revision>
  <dc:subject/>
  <dc:title>No Slide Title</dc:title>
</cp:coreProperties>
</file>